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9.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media/image13.wmf" ContentType="image/x-wmf"/>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move the slide</a:t>
            </a:r>
            <a:endParaRPr b="1" lang="en-US" sz="4400" spc="-1" strike="noStrike">
              <a:solidFill>
                <a:srgbClr val="a59658"/>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A3D3-CAE2-48EE-85B0-D9AA8092C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98720" y="679320"/>
            <a:ext cx="4736880" cy="355284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H-8) </a:t>
            </a:r>
            <a:r>
              <a:rPr b="0" lang="en-US" sz="800" spc="-1" strike="noStrike">
                <a:solidFill>
                  <a:srgbClr val="000000"/>
                </a:solidFill>
                <a:latin typeface="Times New Roman"/>
              </a:rPr>
              <a:t>Is there a need to fast?</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the only spiritual discipline that meets all the conditions of 2 Chronicles 7:14 – “If My people who are called by My name will humble themselves, and pray and seek My face, and turn from their wicked ways, then I will hear from heaven, and will forgive their sin and heal their land” (NKJV).</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the scriptural way to humble ourselves before God.  David said, “I humbled myself with fasting” (Psalm 35:13, NKJV).</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provides more time to pray, seek God’s presence, and repent, because you are focused on the Lord and less concerned with daily routines, such as preparing meals and eating, that are more focused on self. (1 Samuel 7:6) </a:t>
            </a:r>
            <a:r>
              <a:rPr b="1" lang="en-US" sz="800" spc="-1" strike="noStrike">
                <a:solidFill>
                  <a:srgbClr val="000000"/>
                </a:solidFill>
                <a:latin typeface="Times New Roman"/>
              </a:rPr>
              <a:t>(OH-9)</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helps us to have clearness of thought and the ability to concentrate on the Word of God. (Jeremiah 36:6)</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transforms prayer in to a richer, deeper, and more personal experience. (Ezra 8:23)</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can help to bring revival, and is vitally important when praying for evangelism. (Acts 13: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 ways fasting can affect u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can bring revelation through the Holy Spirit of our true spiritual condition, leading to brokenness and repentanc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can bring a new faith and hope, and greater trust.</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is a primary means of restoration.  Humbling yourself by fasting releases the Holy Spirit to do His special work of revival in you.  This changes your relationship with God and gives you a greater awareness of God’s reality and presence in your lif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reduces the power of self so that the Holy Spirit can do a more intense work within us.  As a result, He can accomplish His will in us and do so “superabundantly” more for us than we could ever imagin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brings a yieldedness, even a holy brokenness, resulting in inner calm and self-control.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eliminates some of the physical distractions in our lives and can lead to a slower pace and a more peaceful attitud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renews spiritual vision.  When you feel your life is out of control or have lost your first love for the Lord, fasting can help you focus once again on God’s plan for your life.</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sting inspires determination to follow God’s revealed plan.  Perhaps you know what God wants you to do but have a hard time following through with His plans.  Fasting can help strengthen your resolve and keep you on tra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have decided to fast, what is your objective?  Is it spiritual renewal, guidance, healing, for the resolution of problems, to know God?  (See appendix 5—How to Plan a Successful Fast)</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1120" y="679320"/>
            <a:ext cx="3930840" cy="2948040"/>
          </a:xfrm>
          <a:prstGeom prst="rect">
            <a:avLst/>
          </a:prstGeom>
          <a:ln w="0">
            <a:noFill/>
          </a:ln>
        </p:spPr>
      </p:sp>
      <p:sp>
        <p:nvSpPr>
          <p:cNvPr id="144"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OW YOU CAN GROW STRONG IN PRAYER (OH-10)</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ake Time for Prayer.  </a:t>
            </a:r>
            <a:r>
              <a:rPr b="0" lang="en-US" sz="800" spc="-1" strike="noStrike">
                <a:solidFill>
                  <a:srgbClr val="000000"/>
                </a:solidFill>
                <a:latin typeface="Times New Roman"/>
              </a:rPr>
              <a:t>Unless it is a habit, your prayer life will always suffer.  The solution is a consistent prayer habit.  David said, “Morning by morning O Lord, You hear my voice; morning by morning I lay my requests before you and wait in expectation. Psalm 5:3.  David had learned the value of a systematic daily prayer habit.  We can’t try to find time</a:t>
            </a:r>
            <a:r>
              <a:rPr b="1" lang="en-US" sz="800" spc="-1" strike="noStrike">
                <a:solidFill>
                  <a:srgbClr val="000000"/>
                </a:solidFill>
                <a:latin typeface="Times New Roman"/>
              </a:rPr>
              <a:t>—we must make the time for prayer</a:t>
            </a:r>
            <a:r>
              <a:rPr b="0" lang="en-US" sz="800" spc="-1" strike="noStrike">
                <a:solidFill>
                  <a:srgbClr val="000000"/>
                </a:solidFill>
                <a:latin typeface="Times New Roman"/>
              </a:rPr>
              <a:t> – dail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nd a quiet place for prayer and Bible study.  </a:t>
            </a:r>
            <a:r>
              <a:rPr b="0" lang="en-US" sz="800" spc="-1" strike="noStrike">
                <a:solidFill>
                  <a:srgbClr val="000000"/>
                </a:solidFill>
                <a:latin typeface="Times New Roman"/>
              </a:rPr>
              <a:t>To really enhance your prayer life we recommend that you find a special place for prayer.  Jesus said, “When you pray, go into your room…” Matt. 6:6.  Our Lord was not speaking of just an attitude in prayer, but a special place, a place where you meet with Him.  Jesus not only talked about this, He practiced it.  Every Christian ought to have a special place for prayer and Bible stud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cognize God for Who He is.</a:t>
            </a:r>
            <a:r>
              <a:rPr b="0" lang="en-US" sz="800" spc="-1" strike="noStrike">
                <a:solidFill>
                  <a:srgbClr val="000000"/>
                </a:solidFill>
                <a:latin typeface="Times New Roman"/>
              </a:rPr>
              <a:t> All prayer should begin with the recognition of the nature of God, because it is God’s nature that gives us confidence that our prayer will be answered.  To recognize God’s nature is called praise.  The model prayer, the Lord’s Prayer, begins and ends with praise. Praise is the gatepass to heaven (Psalm 100:4) Begin prayer with </a:t>
            </a:r>
            <a:r>
              <a:rPr b="1" lang="en-US" sz="800" spc="-1" strike="noStrike">
                <a:solidFill>
                  <a:srgbClr val="000000"/>
                </a:solidFill>
                <a:latin typeface="Times New Roman"/>
              </a:rPr>
              <a:t>adoration,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fess your failures.</a:t>
            </a:r>
            <a:r>
              <a:rPr b="0" lang="en-US" sz="800" spc="-1" strike="noStrike">
                <a:solidFill>
                  <a:srgbClr val="000000"/>
                </a:solidFill>
                <a:latin typeface="Times New Roman"/>
              </a:rPr>
              <a:t> Early in each prayer time we need to consider the matter of confession.  The psalmist reminds us, “If I had cherished sin my heart, the Lord would not have listened.” Psalm 66:18.  Scripture makes it clear that unconfessed sin blocks the channel between God and the pray-er. A daily prayer habit gives us special time to evaluate our spiritual condition.  Confession is a prerequisite to powerful praying.  Willful sin and prayer are totally incompatible.  A vital part of our prayer should be this time of self-examination.  </a:t>
            </a:r>
            <a:r>
              <a:rPr b="1" lang="en-US" sz="800" spc="-1" strike="noStrike">
                <a:solidFill>
                  <a:srgbClr val="000000"/>
                </a:solidFill>
                <a:latin typeface="Times New Roman"/>
              </a:rPr>
              <a:t>Confession is the</a:t>
            </a:r>
            <a:r>
              <a:rPr b="0" lang="en-US" sz="800" spc="-1" strike="noStrike">
                <a:solidFill>
                  <a:srgbClr val="000000"/>
                </a:solidFill>
                <a:latin typeface="Times New Roman"/>
              </a:rPr>
              <a:t> </a:t>
            </a:r>
            <a:r>
              <a:rPr b="1" lang="en-US" sz="800" spc="-1" strike="noStrike">
                <a:solidFill>
                  <a:srgbClr val="000000"/>
                </a:solidFill>
                <a:latin typeface="Times New Roman"/>
              </a:rPr>
              <a:t>“C.”</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ank God for what He has done.</a:t>
            </a:r>
            <a:r>
              <a:rPr b="0" lang="en-US" sz="800" spc="-1" strike="noStrike">
                <a:solidFill>
                  <a:srgbClr val="000000"/>
                </a:solidFill>
                <a:latin typeface="Times New Roman"/>
              </a:rPr>
              <a:t> Our prayer should be seasoned throughout with gratitude and thanksgiving.  What has He done for you? Praise is defined as adoring God for what He is, and thanksgiving is thanking God for what He has done.  This involves specifics.  The next time you pray, make a mental list of all God has done for you.  Review past gifts from God. Gratitude is a great atmosphere in which to petition the Father.  It reminds us of His goodness and answers in the past.  </a:t>
            </a:r>
            <a:r>
              <a:rPr b="1" lang="en-US" sz="800" spc="-1" strike="noStrike">
                <a:solidFill>
                  <a:srgbClr val="000000"/>
                </a:solidFill>
                <a:latin typeface="Times New Roman"/>
              </a:rPr>
              <a:t>Thanksgiving is the “T.”</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ring God your needs and petitions. </a:t>
            </a:r>
            <a:r>
              <a:rPr b="0" lang="en-US" sz="800" spc="-1" strike="noStrike">
                <a:solidFill>
                  <a:srgbClr val="000000"/>
                </a:solidFill>
                <a:latin typeface="Times New Roman"/>
              </a:rPr>
              <a:t>Praying with God’s word is a powerful way to pray. George Mueller, the great orphanage leader of the last century, was known for his tremendous faith in God as well as his powerful prayer life. Without a doubt the secret lay in the fact that George Mueller never prayed without an open Bible. He had learned the power of God’s word to Jeremiah, “Is not My word like a fire…and like a hammer that breaks the rock in pieces?” Jeremiah 23:29. </a:t>
            </a:r>
            <a:r>
              <a:rPr b="1" lang="en-US" sz="800" spc="-1" strike="noStrike">
                <a:solidFill>
                  <a:srgbClr val="000000"/>
                </a:solidFill>
                <a:latin typeface="Times New Roman"/>
              </a:rPr>
              <a:t>Your supplications are the “S.”  Acts—an acronym, for adoration, confession, thanksgiving, and supplication—provides a structure for prayer.</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n’t give up. </a:t>
            </a:r>
            <a:r>
              <a:rPr b="0" lang="en-US" sz="800" spc="-1" strike="noStrike">
                <a:solidFill>
                  <a:srgbClr val="000000"/>
                </a:solidFill>
                <a:latin typeface="Times New Roman"/>
              </a:rPr>
              <a:t>Jacob provides us with a unique example of one who persisted until he received a desired blessing from God.  He said, “I will not let You go, unless You bless me.”</a:t>
            </a:r>
            <a:r>
              <a:rPr b="0" i="1" lang="en-US" sz="800" spc="-1" strike="noStrike">
                <a:solidFill>
                  <a:srgbClr val="000000"/>
                </a:solidFill>
                <a:latin typeface="Times New Roman"/>
              </a:rPr>
              <a:t> </a:t>
            </a:r>
            <a:r>
              <a:rPr b="0" lang="en-US" sz="800" spc="-1" strike="noStrike">
                <a:solidFill>
                  <a:srgbClr val="000000"/>
                </a:solidFill>
                <a:latin typeface="Times New Roman"/>
              </a:rPr>
              <a:t>Gen. 32:26.  Many believers begin their journey of prayer with great intentions, only to give up as the going gets rough.  Persistence is a prerequisite to spiritual power.  When it comes to prayer, we must declare with the psalmist, </a:t>
            </a:r>
            <a:r>
              <a:rPr b="0" i="1" lang="en-US" sz="800" spc="-1" strike="noStrike">
                <a:solidFill>
                  <a:srgbClr val="000000"/>
                </a:solidFill>
                <a:latin typeface="Times New Roman"/>
              </a:rPr>
              <a:t>“My heart is fixed, O God, my heart is steadfast.”</a:t>
            </a:r>
            <a:r>
              <a:rPr b="0" lang="en-US" sz="800" spc="-1" strike="noStrike">
                <a:solidFill>
                  <a:srgbClr val="000000"/>
                </a:solidFill>
                <a:latin typeface="Times New Roman"/>
              </a:rPr>
              <a:t> Psalm 57:7. Do everything you can to strengthen your prayer life. It is true, “More things are wrought by prayer than of this world.”</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editate in God’s presence. </a:t>
            </a:r>
            <a:r>
              <a:rPr b="0" lang="en-US" sz="800" spc="-1" strike="noStrike">
                <a:solidFill>
                  <a:srgbClr val="000000"/>
                </a:solidFill>
                <a:latin typeface="Times New Roman"/>
              </a:rPr>
              <a:t>Think about what you are reading in Scripture and how it applies to your life personally. Meditation is not only meaningful, but vital to balanced praying. The psalms begin with this statement, “Blessed is the man that…delights in the law of the Lord; and on His law he meditates day and night.” Psalm 1:1and 2. “Success” is mentioned together with a command to meditate day and night on God’s Word (Joshua 1:8). Ask yourself what you have learned of God from the passage of Scripture, and how He is speaking to you.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ng a new song.</a:t>
            </a:r>
            <a:r>
              <a:rPr b="0" lang="en-US" sz="800" spc="-1" strike="noStrike">
                <a:solidFill>
                  <a:srgbClr val="000000"/>
                </a:solidFill>
                <a:latin typeface="Times New Roman"/>
              </a:rPr>
              <a:t> Many Christians are rediscovering the joy of singing aloud during prayer. In the Bible singing is vital in worship. Paul and Silas were arrested and jailed for preaching the Gospel (Acts 16:25), but were found singing praises. This changed everything. Since they did not have hymnbooks, their songs must have come from the heart. The psalmist spoke of this as “singing a new song.” When you do this alone with God you won’t have any embarrassment. Make up simple choruses and words. It will be a new joy—just between you and God. </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H-11)</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ay much for others.</a:t>
            </a:r>
            <a:r>
              <a:rPr b="0" lang="en-US" sz="900" spc="-1" strike="noStrike">
                <a:solidFill>
                  <a:srgbClr val="000000"/>
                </a:solidFill>
                <a:latin typeface="Times New Roman"/>
              </a:rPr>
              <a:t> Every prayer should have a significant portion devoted exclusively to praying for others. Christ’s model prayer does not begin with “My Father,” but with the expression, “Our Father.” Not once does the prayer use personal pronouns such as “I,” “Me,” or “My.” Christ’s prayer says, give “us,” lead “us,” and forgive “us.” The emphasis is clearly on other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ay for ministry and for evangelism. </a:t>
            </a:r>
            <a:r>
              <a:rPr b="0" lang="en-US" sz="900" spc="-1" strike="noStrike">
                <a:solidFill>
                  <a:srgbClr val="000000"/>
                </a:solidFill>
                <a:latin typeface="Times New Roman"/>
              </a:rPr>
              <a:t>When praying for others, nothing is more important than their spiritual well-being. Millions of people around the world are waiting to hear of Jesus. Pray for each of the pastors in your conference. Pray for the church officers and leaders of your local church and for the conference leadership. In 1Thess. 5:12, 13, Paul tells us to hold in high regard those who are over us in the Lord; our pastors, teachers, and church leadership. Pray for the clergy and lay members of other denomination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ocus your prayers.</a:t>
            </a:r>
            <a:r>
              <a:rPr b="0" lang="en-US" sz="900" spc="-1" strike="noStrike">
                <a:solidFill>
                  <a:srgbClr val="000000"/>
                </a:solidFill>
                <a:latin typeface="Times New Roman"/>
              </a:rPr>
              <a:t> Intercessory prayer should be focused on specific needs, on our nation, and every nation of the world. David prayed, “Thou therefore, O Lord, God of hosts, the God of Israel, awake to visit all the heathen” (Psalm 59:5). Pray for specific pastors and church leaders by name. Pray for the members of your church. You may want to divide the directory into sections so that each day some part will be covered in prayer. If you are praying for the world, you could divide the 210 countries into seven groups of thirty countries, praying for one of these groups each day of the week. Each week you will be able to visit the entire world, country by country, in praye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lan your prayer time. </a:t>
            </a:r>
            <a:r>
              <a:rPr b="0" lang="en-US" sz="900" spc="-1" strike="noStrike">
                <a:solidFill>
                  <a:srgbClr val="000000"/>
                </a:solidFill>
                <a:latin typeface="Times New Roman"/>
              </a:rPr>
              <a:t>Develop a plan before you go into your prayer closet.  If you write your prayers, take your notebook, pen, and Bible. You may also want a highlighter, etc. If you use a structure of some kind, such as the Lord’s prayer, carefully, and prayerfully, ask God to show you who to pray for, and how to pray. Ask for His protection and guidance as you pray.</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arn to fast and pray.</a:t>
            </a:r>
            <a:r>
              <a:rPr b="0" lang="en-US" sz="900" spc="-1" strike="noStrike">
                <a:solidFill>
                  <a:srgbClr val="000000"/>
                </a:solidFill>
                <a:latin typeface="Times New Roman"/>
              </a:rPr>
              <a:t> Fasting is the practice of deliberately abstaining from usual nourishment for the purpose of adding power to your prayer. A wise writer once said, “All men who have had spiritual power to prevail with God and man, have been men who learned to sternly deny themselves and keep their bodies under.” Jesus made it clear that some spiritual victories can only come through fasting and prayer (Mark 9:28, 29). Set aside at least one meal per week, or even an entire day, for prayer and fasting. Focus this intense prayer on nations or individuals or cities that seem closed to evangelism.</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nd a prayer partner. </a:t>
            </a:r>
            <a:r>
              <a:rPr b="0" lang="en-US" sz="900" spc="-1" strike="noStrike">
                <a:solidFill>
                  <a:srgbClr val="000000"/>
                </a:solidFill>
                <a:latin typeface="Times New Roman"/>
              </a:rPr>
              <a:t>Jesus, the Master pray-er, taught that praying with others increases prayer power. He said, “… if two of you shall agree on earth as touching anything that they shall ask, it shall be done for them of my Father which is in heaven” (Matt. 18:19). Our Lord made it clear that special power is released when two people agree on a given matter.  Find a prayer partner who can join you at the same time you pray, even if they live hundreds of miles away, or find a person who lives close by so that you can get together regularly, either in person or by phone. </a:t>
            </a: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2)</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al secret.</a:t>
            </a:r>
            <a:r>
              <a:rPr b="0" lang="en-US" sz="1200" spc="-1" strike="noStrike">
                <a:solidFill>
                  <a:srgbClr val="000000"/>
                </a:solidFill>
                <a:latin typeface="Times New Roman"/>
              </a:rPr>
              <a:t>  Some have said that the real key to prayer—to knowing God and getting His answers—is learned from Christ in Mark 11:24. He said, “What things soever ye desire, when ye pray, believe that ye receive them, and ye shall have them.” The first word to note here is desire, and this is the key. If you don’t really, really “desire,” you probably will never get an answer to that prayer. Earnest prayers of faith for yourself or others are meaningfu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praying is the most important thing we do, and because praying is strenuous, some often rest for just a few minutes before they pray, so that they can be at their best for their most meaningful work.  God gives fantastic answers. Praying is exciting and meaningful when you do it the way Christ taugh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k Eastman &amp; Ruthie Jacobs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with per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501920" y="679320"/>
            <a:ext cx="3930480" cy="2948040"/>
          </a:xfrm>
          <a:prstGeom prst="rect">
            <a:avLst/>
          </a:prstGeom>
          <a:ln w="0">
            <a:noFill/>
          </a:ln>
        </p:spPr>
      </p:sp>
      <p:sp>
        <p:nvSpPr>
          <p:cNvPr id="127"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Y PRAY? (OH-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d is looking for individuals, men and women, who will “stand in the gap,” and will get to know Him—women who will intercede.  History belongs to the intercesso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s looking for yo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young woman picked up the phone and dialed her friend, but got only a little whispered “hello” on the other e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Hi Mickey, is your Mommy home?” she asked her friend’s three year o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was his quiet little respon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May I speak to her, Honey?” she ask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he whispered, “She’s bus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Well, is your Daddy ho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he answered quiet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Could I speak to him?” She was getting curious 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he’s busy,” he answered, again in a whisp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Is anyone else there?” She wanted to k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he whispered, “the Fire Department.” Her heart beat a little faster now as she envisioned all kinds of disasters at her friend’s ho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Mikey, is one of them close to a phone?” she nervously ask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he whispered, “They’re bus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e nervously asked, “Is anyone else there?” She was starting to feel a little despera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es,” he answered in his quiet little voice.  “The Police are here to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Let me speak to one of them, Mickey,” she sai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 they’re busy.” He whisper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Now let me get this straight, Mike.  Your mom is home, your dad is there, the Fire Department, and the Police are all at your house.  Is that righ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Uh hu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What are they doing?”  She demanded, almost hysterical n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They’re looking for me,” was his final little whisp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have a God who looks for us.  In the Garden, God went to look for His two lost children.  Even though He knew exactly where they were, He went to look for them.  It was important to Him to be with His children then, and He still wants to be with His children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s hard to imagine that we have a God who goes seeking us.  He knows where we are, what we are doing, even what we are thinking.  And why?  He will do whatever it takes to get our attention and help us discover that His view of us is the same as that evening in Eden when He went to look for His first childr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essage of His heart for us is pers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I have been looking for you.”</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You are a very special to 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I have a specific purpose for you.”</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might ask, “Why pray, if God already knows all about me and my needs?” (O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nts us to get to know Him.  The purpose of prayer is to enable us to come into His presence, where we are changed.  It frees His hand to do more in our lives and in the lives of those for whom we pray.  Someone has said, “God rules the world through the prayers of His people.”  Christ actually meant prayer to be the great power by which His church should do it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 doesn’t change God, prayer changes us.  It is not to tell God what He already knows; it is to venture into His presence so He can help us understand what He already se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faith? Don’t some people just naturally have more faith than others? (O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Mueller, a great Christian leader of the last century, provided housing, clothing, food, and education for tens of thousands of British orphans, though he himself was poor.  It was not his original plan to build orphanages, he was simply looking for a way to demonstrate that God answers prayer.  Over his lifetime the Lord provided millions of dollars, though Mueller never once asked anyone for money.  He was sometimes told that he had a special gift—that faith must be given as a gift from God because of his work.  He always answered that this was unequivocally false.  He explained that faith is given to everyone, but that faith grows with exercise.  Testing is the perfect climate for faith to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couple, after many trips to physicians, was presented with the heart-wrenching news that their baby had cerebral palsy.  There followed a roller coaster of emotional experiences as they tried to understand the implications of the diagnosis.  During this time, they learned that God can bring something wonderful out of an agonizing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lling their story this young mother said, “We saw small miracles and were continually reminded that God’s hand was at work.”  Then she made this profound observation:  “I believe that God wants much more for us than what a care-free existence can produce.”  This is allowing faith to grow, beginning to experience God’s great eternal perspecti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PRAYER ALWAYS PRACTICAL?  CAN ITS OUTCOME BE MEASURED? (O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 is a practical experience.  Someone has said that “When we work, we work, but when we pray, God works!”  In the great controversy between good and evil, God has chosen to be responsive to the prayers of His people.  The record is clear:  when God’s people pray the sun is stopped in its tracks, walls fall down, sinners become saints, enemies are put to flight, families are brought together, worries are put under His banner of healing.  How’s that for meas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ed, sometimes God is more subtle.  Not all prayers are answered as we desire or on our timetable.  But He is too great to invite us to pray and then to ignore us when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observe that many of the great preachers in Christian history—those who were instrumental in changing entire nations such as Spurgeon, Finney, and Moody—were blessed with intercessors, those who lifted them constantly before God’s throne, pleading for the Holy Spirit’s power on their ministry.  That raises the question of who had the most valuable part to play, the preachers or the intercessors through whom God empower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at raises a final question:  Is God looking for you?  Is God calling you to the role of intercessor in His end-time chur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63600" y="679320"/>
            <a:ext cx="4332240" cy="3249720"/>
          </a:xfrm>
          <a:prstGeom prst="rect">
            <a:avLst/>
          </a:prstGeom>
          <a:ln w="0">
            <a:noFill/>
          </a:ln>
        </p:spPr>
      </p:sp>
      <p:sp>
        <p:nvSpPr>
          <p:cNvPr id="135" name="PlaceHolder 2"/>
          <p:cNvSpPr>
            <a:spLocks noGrp="1"/>
          </p:cNvSpPr>
          <p:nvPr>
            <p:ph type="body"/>
          </p:nvPr>
        </p:nvSpPr>
        <p:spPr>
          <a:xfrm>
            <a:off x="685800" y="4231800"/>
            <a:ext cx="5486400" cy="41562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W YOUR CHURCH CAN GROW STRONG IN PRAYER (OH-5)</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 powerful church has leaders who make prayer a priority.  If you take a long look at your church, you’ll likely discover that your church’s greatest deficiency is not in programs, strategies, materials, or ideas, but in prayer.  This is our greatest nee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r church’s greatest strength is in prayer.  Power for effective ministry is released only through prayer.  Prayer gives focus to the mission of the church.</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ry pastor and church leader needs a prayer partner and a praying church.</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Prayer, Bible study, and ministry should always be linked together.  Prayer and Bible study without serving and sharing can create complacent Christians.  Ministry without prayer becomes work in the power of the flesh, our attempts in human strength only.  It may look successful, but it is without the eternal consequences God had in min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are finding that one powerful way to enhance their experience in prayer, Bible study, and ministry is in a small group.  A circle of friends will meet regularly to pray together, study Scripture, and search for opportunities to help those around them in their homes, in their group, and their community.  (Teens and adults are finding that a simple, but life-changing method helps—see Appendix 1.)</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Plan times, ways, and places for people to pray together—for your church, for its leaders, and for the community.  This encourages consistency in prayer.  As you listen to others pray, your own prayer life will be strengthened by hearing their experiences.  Praying together not only strengthens our faith, but mutual praying makes the large task of prayer more manageabl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Encourage personal and family devotions.  Private prayer is the highest activity in which any soul can engage.  But if personal and family worship are neglected, it’s like sprinkling the foliage of a plant with water while leaving the roots dry.  God has chosen prayer as the key by which His church does its work.  Through prayer we impact the world for Go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 THE LOCAL CHURCH (OH-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some time Marge had felt impressed that she should be involved in Prayer Ministries in some way.    She wasn’t sure where to start, so she prayed and asked God for a prayer partner—another woman who would share her interests and concerns.  Someone she could pray with and for—someone who would join in her work of prayer in he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 long after that, someone she hardly knew was talking with her at a church fellowship lunch one Sabbath afternoon, and told her that she had been praying that God would lead her to a prayer partner.  They became close friends, and as they prayed and studied God’s word together their work unfolded before th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talked with their pastor about his goals and the needs of the church.  They told him that they would like to pray with him once each week, and that they would pray for him every Sabbath morning before he went out on the platform to speak.  They also promised him that they would be praying while he was preaching.  This was a tremendous time of encouragement for the pastor—and a blessing to the entire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 the pastor and a small prayer committee, they planned prayer events throughout the year—special times when other churches could join them for specific seminars and speakers who brought resources and new experien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ayerwalk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planned times for prayerwalking.  It started slowly at first, with just a few involved, but as God gave answers, and as people told their stories during the church service, enthusiasm grew.  (See Appendix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discovered that prayerwalking was a powerful and easy way to involve other denominations.  All churches are interested in praying for their community, and are looking for ways to reach out in specific ways.  Prayerwalking can break down barriers in your neighborhood.  It gives us more compassion and opportunities to be with and pray for and with oth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Prayer Ro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y worked with the pastor and committee to provide a prayer room in their church.  Here was a quiet, attractive place where people of all denominations could come, pray, leave specific requests in the box, and know that a group would be praying over each reques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soon was a need for a special time during the church service for prayer requests and answers.  Prayer became a priority, and the undergirding of everything that the church was about.  Before any event, and/or during the activity, there often were people praying for God to intervene and take their efforts to a higher lev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 10/40 Windo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he prayer room, someone had hung a large, framed map of the world, with the outline of the 10/40 Window (see Appendix 3).  This troubled area of the world stretches from West Africa through the Middle East and East Asi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re than 60 countries fall within the boundaries of 10 and 40 degrees latitude north of the equator.  These countries include the majority of Muslims, Hindus, and Buddhists in the world.  This is where the poorest of the poor labor endlessly just to earn a meager existence.  This is where famine has not only desecrated the land, but the minds, bodies, and spirits of the people.  It is the place where Satan has great power, and it has been called hell on eart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can we reach our arms around the world?  How can the peoples of the 10/40 Window be reached?  How can other countries, the sleeping countries of Europe and Gospel-hardened North America be awakened?</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465200" y="679320"/>
            <a:ext cx="4132440" cy="3098880"/>
          </a:xfrm>
          <a:prstGeom prst="rect">
            <a:avLst/>
          </a:prstGeom>
          <a:ln w="0">
            <a:noFill/>
          </a:ln>
        </p:spPr>
      </p:sp>
      <p:sp>
        <p:nvSpPr>
          <p:cNvPr id="139" name="PlaceHolder 2"/>
          <p:cNvSpPr>
            <a:spLocks noGrp="1"/>
          </p:cNvSpPr>
          <p:nvPr>
            <p:ph type="body"/>
          </p:nvPr>
        </p:nvSpPr>
        <p:spPr>
          <a:xfrm>
            <a:off x="685800" y="3928680"/>
            <a:ext cx="548640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found in Matthew 9:37 &amp; 38: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only place in Scripture where Christ points out an insurmountable problem, and then gives a divine solution.  </a:t>
            </a:r>
            <a:r>
              <a:rPr b="1" lang="en-US" sz="1200" spc="-1" strike="noStrike">
                <a:solidFill>
                  <a:srgbClr val="000000"/>
                </a:solidFill>
                <a:latin typeface="Times New Roman"/>
              </a:rPr>
              <a:t>The answer is 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 promised that if we ask anything in His name, He will do it (John 14: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en White wrote about the value of work and prayer for others.  She wr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show a liberal, self-denying spirit for the success of foreign missions is a sure way to advance home missionary work; for the prosperity of the home work depends largely, under God, upon the reflex influence of the evangelical work done in countries afar off” (</a:t>
            </a:r>
            <a:r>
              <a:rPr b="0" i="1" lang="en-US" sz="1200" spc="-1" strike="noStrike">
                <a:solidFill>
                  <a:srgbClr val="000000"/>
                </a:solidFill>
                <a:latin typeface="Times New Roman"/>
              </a:rPr>
              <a:t>Gospel Workers</a:t>
            </a:r>
            <a:r>
              <a:rPr b="0" lang="en-US" sz="1200" spc="-1" strike="noStrike">
                <a:solidFill>
                  <a:srgbClr val="000000"/>
                </a:solidFill>
                <a:latin typeface="Times New Roman"/>
              </a:rPr>
              <a:t>, p.465).</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685800" y="831960"/>
            <a:ext cx="5486400" cy="75564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rayer Coordinato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prayer coordinator was appointed to lead out in the work of the prayer committee.  This provided for better communication and someone who was responsible for the work of prayer.  (See Appendix 4 – Job Description)  Prayer became more intentional and more expected.  There was now a liaison between the prayer committee of Marge’s church, and the prayer leaders of other denominations in the cit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AYER AND FAST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the beginning, the prayers of God’s people have opened the doors to God’s unbelievable power.  Prayer and faith are our connection with God, who can do anything.  All through scripture God has worked in miraculous ways to rescue His children and to answer their praye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vid, in Psalm 18:30, says that “the promise of the Lord proves true” (RSV), and the message of Scripture, from cover to cover, is the same—His promises are true.  Story after story gives us overwhelming evidence that He does rescue; He does deliver; He does provide; He does he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ter and the other disciples spent 10 days in prayer as Christ instructed them to do.  The result was Pentecost and the outpouring of the Holy Spirit, which equipped them for service.  Three thousand were converted, and that was just the beginning—the disciples themselves were given boldness, courage, strength, and the abilities they needed.  </a:t>
            </a:r>
            <a:r>
              <a:rPr b="1" lang="en-US" sz="1000" spc="-1" strike="noStrike">
                <a:solidFill>
                  <a:srgbClr val="000000"/>
                </a:solidFill>
                <a:latin typeface="Times New Roman"/>
              </a:rPr>
              <a:t>The difference is prayer</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ten when we relate stories of miracles from Scripture or from more recent times we begin in the middle of God’s story—giving the exciting details of the miracle.  Actually, if we go back to the very beginning of the story, we’ll see that the narrative begins with God’s people on their faces before Him in prayer, and often they were not only praying, but fasting.  Then, in answer to the united prayer and fasting His people come to realize more clearly Who He i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niel tells us in Daniel 11:32 that those who know God will be made strong, and able to do bold and mighty things for Go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oal of prayer is to know God.  Greater than having our prayers answered, more important than receiving “things” from His hand, is to know His heart, His will, and His plan.  This happens in prayer, in the study of His Word, and in fast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ord for fasting literally means “to cover the mouth.”  The actual meaning is that in fasting we cover the entrances or accesses to the innermost being.  To cover the entrances means that you also cover the eyes or the ears of your mind, to filter what is in your hear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pastor said that for him, fasting was like the atomic bomb that added new power to his lif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04E6C-AC81-456B-9C25-B78778165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7"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3296A-A86D-4B32-A469-7C364B5D7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0"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E579E-87A3-4608-97E9-180073A21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5"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6904B-B59C-413E-82D1-CB75D6D00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777C1-AF15-40F9-8607-257050F9B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7"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33C5B-959F-46F2-B2B4-0D548F44A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9"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8C896-9B0D-406D-A699-5F2EF2582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1"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481B5-A805-4B01-A190-98CCA1943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3FA7C-27F3-4AAE-A8DC-DCA2CC44D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6DD19-3C7B-4711-B6C8-B951EB10F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6"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FA593-2E35-4C3A-A5DD-CB2079C45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361D4-61E3-46CF-BEA9-AF70F0892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F180F-B656-4D19-B258-9CF41D961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4"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46ED3-3AAC-4329-868F-DEF46E168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8"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6F347-BA52-4D65-BF67-615513356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1"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54F80-FA25-4830-BD54-A113C161B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6"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31526-C4E4-4BD6-9BAB-4C780308E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8"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E7AED-A71B-430E-9BA4-724235245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CEA93-A6D4-4136-A5B3-FAF78487D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2D302-20AC-4F0B-950F-3F0E1CE64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C286D-8BB8-4101-86D1-F2C33C979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5"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7013C-21F7-4F9C-B6A4-C34C723F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9"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E0D45-6BCC-42D2-AC84-DF17C738C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3"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72339-CD26-4293-AF48-80CB81137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1" name="PlaceHolder 2"/>
          <p:cNvSpPr>
            <a:spLocks noGrp="1"/>
          </p:cNvSpPr>
          <p:nvPr>
            <p:ph type="body"/>
          </p:nvPr>
        </p:nvSpPr>
        <p:spPr>
          <a:xfrm>
            <a:off x="380520" y="2514600"/>
            <a:ext cx="495324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D792-6D75-453B-9767-8A1C1FF3D298}"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361960"/>
            <a:ext cx="510516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3DB0-B678-4F67-811D-85C8FE438E06}"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1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slideLayout" Target="../slideLayouts/slideLayout1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Prayer Ministries</a:t>
            </a:r>
            <a:endParaRPr b="1" lang="en-US" sz="4400" spc="-1" strike="noStrike">
              <a:solidFill>
                <a:srgbClr val="a59658"/>
              </a:solidFill>
              <a:latin typeface="Arial"/>
            </a:endParaRPr>
          </a:p>
        </p:txBody>
      </p:sp>
      <p:sp>
        <p:nvSpPr>
          <p:cNvPr id="90" name=""/>
          <p:cNvSpPr/>
          <p:nvPr/>
        </p:nvSpPr>
        <p:spPr>
          <a:xfrm>
            <a:off x="304920" y="2666880"/>
            <a:ext cx="5333760" cy="354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By Ruthie Jacobsen</a:t>
            </a: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581e"/>
                </a:solidFill>
                <a:latin typeface="Georgia"/>
              </a:rPr>
              <a:t>Leadership Certification Level 2</a:t>
            </a: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581e"/>
                </a:solidFill>
                <a:latin typeface="Georgia"/>
              </a:rPr>
              <a:t>Women’s Ministries</a:t>
            </a:r>
            <a:endParaRPr b="0" lang="en-US" sz="2800" spc="-1" strike="noStrike">
              <a:solidFill>
                <a:srgbClr val="f6e8ee"/>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581e"/>
                </a:solidFill>
                <a:latin typeface="Georgia"/>
              </a:rPr>
              <a:t>General Conference</a:t>
            </a:r>
            <a:endParaRPr b="0" lang="en-US" sz="28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352320" y="456840"/>
            <a:ext cx="5334120" cy="3429000"/>
          </a:xfrm>
          <a:prstGeom prst="rect">
            <a:avLst/>
          </a:prstGeom>
          <a:noFill/>
          <a:ln w="0">
            <a:noFill/>
          </a:ln>
        </p:spPr>
        <p:txBody>
          <a:bodyPr lIns="90000" rIns="90000" tIns="46800" bIns="46800" anchor="t">
            <a:noAutofit/>
          </a:bodyPr>
          <a:p>
            <a:pPr>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9658"/>
                </a:solidFill>
                <a:latin typeface="Arial"/>
              </a:rPr>
              <a:t>Is there a need to fast?</a:t>
            </a:r>
            <a:endParaRPr b="0" lang="en-US" sz="3200" spc="-1" strike="noStrike">
              <a:solidFill>
                <a:srgbClr val="f6e8ee"/>
              </a:solidFill>
              <a:latin typeface="Georgia"/>
            </a:endParaRPr>
          </a:p>
          <a:p>
            <a:pPr>
              <a:lnSpc>
                <a:spcPct val="90000"/>
              </a:lnSpc>
              <a:spcBef>
                <a:spcPts val="601"/>
              </a:spcBef>
              <a:spcAft>
                <a:spcPts val="901"/>
              </a:spcAft>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is the only spiritual discipline that meets all the conditions of 2 Chronicles 7:14</a:t>
            </a:r>
            <a:endParaRPr b="0" lang="en-US" sz="2400" spc="-1" strike="noStrike">
              <a:solidFill>
                <a:srgbClr val="f6e8ee"/>
              </a:solidFill>
              <a:latin typeface="Georgia"/>
            </a:endParaRPr>
          </a:p>
          <a:p>
            <a:pPr>
              <a:lnSpc>
                <a:spcPct val="90000"/>
              </a:lnSpc>
              <a:spcBef>
                <a:spcPts val="601"/>
              </a:spcBef>
              <a:spcAft>
                <a:spcPts val="901"/>
              </a:spcAft>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is the scriptural way to humble ourselves before God (Psalm 35:13)</a:t>
            </a:r>
            <a:endParaRPr b="0" lang="en-US" sz="2400" spc="-1" strike="noStrike">
              <a:solidFill>
                <a:srgbClr val="f6e8ee"/>
              </a:solidFill>
              <a:latin typeface="Georgia"/>
            </a:endParaRPr>
          </a:p>
          <a:p>
            <a:pPr>
              <a:lnSpc>
                <a:spcPct val="90000"/>
              </a:lnSpc>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provides time to pray and repent </a:t>
            </a:r>
            <a:endParaRPr b="0" lang="en-US" sz="2400" spc="-1" strike="noStrike">
              <a:solidFill>
                <a:srgbClr val="f6e8ee"/>
              </a:solidFill>
              <a:latin typeface="Georg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1 Samuel 7:6)</a:t>
            </a:r>
            <a:endParaRPr b="0" lang="en-US" sz="2400" spc="-1" strike="noStrike">
              <a:solidFill>
                <a:srgbClr val="f6e8ee"/>
              </a:solidFill>
              <a:latin typeface="Georgia"/>
            </a:endParaRPr>
          </a:p>
        </p:txBody>
      </p:sp>
      <p:sp>
        <p:nvSpPr>
          <p:cNvPr id="113" name=""/>
          <p:cNvSpPr/>
          <p:nvPr/>
        </p:nvSpPr>
        <p:spPr>
          <a:xfrm>
            <a:off x="457200" y="3886200"/>
            <a:ext cx="83818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helps us to have clearness of thought and the ability to concentrate on the Word of God (Jeremiah 36:6)</a:t>
            </a:r>
            <a:endParaRPr b="0" lang="en-US" sz="2400" spc="-1" strike="noStrike">
              <a:solidFill>
                <a:srgbClr val="f6e8ee"/>
              </a:solidFill>
              <a:latin typeface="Times New Roman"/>
            </a:endParaRPr>
          </a:p>
          <a:p>
            <a:pPr>
              <a:lnSpc>
                <a:spcPct val="100000"/>
              </a:lnSpc>
              <a:spcBef>
                <a:spcPts val="15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t transforms prayer into a richer, deeper, more personal experience (Ezra 8:23)</a:t>
            </a:r>
            <a:endParaRPr b="0" lang="en-US" sz="2400" spc="-1" strike="noStrike">
              <a:solidFill>
                <a:srgbClr val="f6e8ee"/>
              </a:solidFill>
              <a:latin typeface="Times New Roman"/>
            </a:endParaRPr>
          </a:p>
          <a:p>
            <a:pPr>
              <a:lnSpc>
                <a:spcPct val="100000"/>
              </a:lnSpc>
              <a:spcBef>
                <a:spcPts val="15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Fasting can help to bring revival, and is vitally important when praying for evangelism (Acts 13:3)</a:t>
            </a:r>
            <a:endParaRPr b="0" lang="en-US" sz="2400" spc="-1" strike="noStrike">
              <a:solidFill>
                <a:srgbClr val="f6e8ee"/>
              </a:solidFill>
              <a:latin typeface="Times New Roman"/>
            </a:endParaRPr>
          </a:p>
        </p:txBody>
      </p:sp>
      <p:pic>
        <p:nvPicPr>
          <p:cNvPr id="114" name="" descr=""/>
          <p:cNvPicPr/>
          <p:nvPr/>
        </p:nvPicPr>
        <p:blipFill>
          <a:blip r:embed="rId2"/>
          <a:stretch/>
        </p:blipFill>
        <p:spPr>
          <a:xfrm>
            <a:off x="1143000" y="1143000"/>
            <a:ext cx="1344600" cy="17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1532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9658"/>
                </a:solidFill>
                <a:latin typeface="Arial"/>
              </a:rPr>
              <a:t>How You can Grow Strong in Prayer</a:t>
            </a:r>
            <a:endParaRPr b="1" lang="en-US" sz="3600" spc="-1" strike="noStrike">
              <a:solidFill>
                <a:srgbClr val="a59658"/>
              </a:solidFill>
              <a:latin typeface="Arial"/>
            </a:endParaRPr>
          </a:p>
        </p:txBody>
      </p:sp>
      <p:sp>
        <p:nvSpPr>
          <p:cNvPr id="116" name=""/>
          <p:cNvSpPr/>
          <p:nvPr/>
        </p:nvSpPr>
        <p:spPr>
          <a:xfrm>
            <a:off x="2133720" y="1066680"/>
            <a:ext cx="4952880" cy="517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Make Time for Prayer</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Find a Quiet Place for Prayer and Bible Study.</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Recognize God for Who He is.</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Confess Your Failures.</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Thank God for what He has Done.</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Bring God Your Needs and Petitions.</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Don’t Give Up.</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Meditate in God’s Presence.</a:t>
            </a:r>
            <a:endParaRPr b="0" lang="en-US" sz="2200" spc="-1" strike="noStrike">
              <a:solidFill>
                <a:srgbClr val="f6e8ee"/>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581e"/>
                </a:solidFill>
                <a:latin typeface="Georgia"/>
              </a:rPr>
              <a:t>Sing a New Song.</a:t>
            </a:r>
            <a:endParaRPr b="0" lang="en-US" sz="2200" spc="-1" strike="noStrike">
              <a:solidFill>
                <a:srgbClr val="f6e8ee"/>
              </a:solidFill>
              <a:latin typeface="Times New Roman"/>
            </a:endParaRPr>
          </a:p>
        </p:txBody>
      </p:sp>
      <p:pic>
        <p:nvPicPr>
          <p:cNvPr id="117" name="" descr=""/>
          <p:cNvPicPr/>
          <p:nvPr/>
        </p:nvPicPr>
        <p:blipFill>
          <a:blip r:embed="rId2"/>
          <a:stretch/>
        </p:blipFill>
        <p:spPr>
          <a:xfrm>
            <a:off x="7848720" y="5334120"/>
            <a:ext cx="1003320" cy="1244520"/>
          </a:xfrm>
          <a:prstGeom prst="rect">
            <a:avLst/>
          </a:prstGeom>
          <a:ln w="0">
            <a:noFill/>
          </a:ln>
        </p:spPr>
      </p:pic>
      <p:pic>
        <p:nvPicPr>
          <p:cNvPr id="118" name="" descr=""/>
          <p:cNvPicPr/>
          <p:nvPr/>
        </p:nvPicPr>
        <p:blipFill>
          <a:blip r:embed="rId3"/>
          <a:stretch/>
        </p:blipFill>
        <p:spPr>
          <a:xfrm>
            <a:off x="380880" y="5257800"/>
            <a:ext cx="1003320" cy="124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6840" y="2743200"/>
            <a:ext cx="5334120" cy="36576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Pray Much for Others</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Pray for Ministry and Evangelism</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Focus Your Prayers</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Plan Your Prayer Time</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Learn to Fast and Pray</a:t>
            </a:r>
            <a:endParaRPr b="0" lang="en-US" sz="2800" spc="-1" strike="noStrike">
              <a:solidFill>
                <a:srgbClr val="f6e8ee"/>
              </a:solidFill>
              <a:latin typeface="Georgi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581e"/>
                </a:solidFill>
                <a:latin typeface="Georgia"/>
              </a:rPr>
              <a:t>Find a Prayer Partner</a:t>
            </a:r>
            <a:endParaRPr b="0" lang="en-US" sz="2800" spc="-1" strike="noStrike">
              <a:solidFill>
                <a:srgbClr val="f6e8ee"/>
              </a:solidFill>
              <a:latin typeface="Georgia"/>
            </a:endParaRPr>
          </a:p>
        </p:txBody>
      </p:sp>
      <p:sp>
        <p:nvSpPr>
          <p:cNvPr id="120" name=""/>
          <p:cNvSpPr/>
          <p:nvPr/>
        </p:nvSpPr>
        <p:spPr>
          <a:xfrm>
            <a:off x="457200" y="228600"/>
            <a:ext cx="556272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How You can Grow Strong in Prayer</a:t>
            </a:r>
            <a:endParaRPr b="0" lang="en-US" sz="4400" spc="-1" strike="noStrike">
              <a:solidFill>
                <a:srgbClr val="f6e8ee"/>
              </a:solidFill>
              <a:latin typeface="Times New Roman"/>
            </a:endParaRPr>
          </a:p>
        </p:txBody>
      </p:sp>
      <p:pic>
        <p:nvPicPr>
          <p:cNvPr id="121" name="" descr=""/>
          <p:cNvPicPr/>
          <p:nvPr/>
        </p:nvPicPr>
        <p:blipFill>
          <a:blip r:embed="rId2"/>
          <a:stretch/>
        </p:blipFill>
        <p:spPr>
          <a:xfrm>
            <a:off x="7010280" y="762120"/>
            <a:ext cx="98424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9658"/>
                </a:solidFill>
                <a:latin typeface="Arial"/>
              </a:rPr>
              <a:t>The Real Secret</a:t>
            </a:r>
            <a:endParaRPr b="1" lang="en-US" sz="4800" spc="-1" strike="noStrike">
              <a:solidFill>
                <a:srgbClr val="a59658"/>
              </a:solidFill>
              <a:latin typeface="Arial"/>
            </a:endParaRPr>
          </a:p>
        </p:txBody>
      </p:sp>
      <p:sp>
        <p:nvSpPr>
          <p:cNvPr id="123" name="PlaceHolder 2"/>
          <p:cNvSpPr>
            <a:spLocks noGrp="1"/>
          </p:cNvSpPr>
          <p:nvPr>
            <p:ph/>
          </p:nvPr>
        </p:nvSpPr>
        <p:spPr>
          <a:xfrm>
            <a:off x="1142640" y="1599840"/>
            <a:ext cx="7467480" cy="4800600"/>
          </a:xfrm>
          <a:prstGeom prst="rect">
            <a:avLst/>
          </a:prstGeom>
          <a:noFill/>
          <a:ln w="0">
            <a:noFill/>
          </a:ln>
        </p:spPr>
        <p:txBody>
          <a:bodyPr lIns="90000" rIns="90000" tIns="46800" bIns="46800" anchor="t">
            <a:normAutofit/>
          </a:bodyPr>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Some have said that the real key to prayer—to knowing God and getting His answers—is learned from Christ in Mark 11:24.</a:t>
            </a: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a:t>
            </a:r>
            <a:r>
              <a:rPr b="0" lang="en-US" sz="2400" spc="-1" strike="noStrike">
                <a:solidFill>
                  <a:srgbClr val="19581e"/>
                </a:solidFill>
                <a:latin typeface="Georgia"/>
              </a:rPr>
              <a:t>What things soever ye desire, when ye pray, believe that ye receive them, and ye shall have them.”</a:t>
            </a: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581e"/>
                </a:solidFill>
                <a:latin typeface="Georgia"/>
              </a:rPr>
              <a:t>If you don’t really, really “desire,” you probably will never get an answer to that prayer.  Earnest prayers of faith for yourself or for others are meaningful.</a:t>
            </a:r>
            <a:endParaRPr b="0" lang="en-US" sz="2400" spc="-1" strike="noStrike">
              <a:solidFill>
                <a:srgbClr val="f6e8ee"/>
              </a:solidFill>
              <a:latin typeface="Georgia"/>
            </a:endParaRPr>
          </a:p>
        </p:txBody>
      </p:sp>
      <p:pic>
        <p:nvPicPr>
          <p:cNvPr id="124" name="" descr=""/>
          <p:cNvPicPr/>
          <p:nvPr/>
        </p:nvPicPr>
        <p:blipFill>
          <a:blip r:embed="rId2"/>
          <a:stretch/>
        </p:blipFill>
        <p:spPr>
          <a:xfrm>
            <a:off x="4648320" y="2819520"/>
            <a:ext cx="463320" cy="326880"/>
          </a:xfrm>
          <a:prstGeom prst="rect">
            <a:avLst/>
          </a:prstGeom>
          <a:ln w="0">
            <a:noFill/>
          </a:ln>
        </p:spPr>
      </p:pic>
      <p:pic>
        <p:nvPicPr>
          <p:cNvPr id="125" name="" descr=""/>
          <p:cNvPicPr/>
          <p:nvPr/>
        </p:nvPicPr>
        <p:blipFill>
          <a:blip r:embed="rId3"/>
          <a:stretch/>
        </p:blipFill>
        <p:spPr>
          <a:xfrm>
            <a:off x="4648320" y="4114800"/>
            <a:ext cx="463320" cy="32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380880"/>
            <a:ext cx="8305920" cy="60962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God is looking for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individuals, men and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women, who will “stand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in the gap,” and will get </a:t>
            </a:r>
            <a:endParaRPr b="0" lang="en-US" sz="40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to know Him—women who will intercede.  History belongs to the intercessors.  </a:t>
            </a:r>
            <a:endParaRPr b="0" lang="en-US" sz="40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Georgia"/>
              </a:rPr>
              <a:t>He’s looking for you! </a:t>
            </a:r>
            <a:endParaRPr b="0" lang="en-US" sz="4000" spc="-1" strike="noStrike">
              <a:solidFill>
                <a:srgbClr val="f6e8ee"/>
              </a:solidFill>
              <a:latin typeface="Georgia"/>
            </a:endParaRPr>
          </a:p>
        </p:txBody>
      </p:sp>
      <p:pic>
        <p:nvPicPr>
          <p:cNvPr id="92" name="" descr=""/>
          <p:cNvPicPr/>
          <p:nvPr/>
        </p:nvPicPr>
        <p:blipFill>
          <a:blip r:embed="rId2"/>
          <a:srcRect l="0" t="0" r="13555" b="0"/>
          <a:stretch/>
        </p:blipFill>
        <p:spPr>
          <a:xfrm>
            <a:off x="6838920" y="762120"/>
            <a:ext cx="1333440" cy="179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581280" y="456840"/>
            <a:ext cx="5183280" cy="5257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9658"/>
                </a:solidFill>
                <a:latin typeface="Arial"/>
              </a:rPr>
              <a:t>Why pray, if God already knows about me and my needs?</a:t>
            </a:r>
            <a:endParaRPr b="1" lang="en-US" sz="6000" spc="-1" strike="noStrike">
              <a:solidFill>
                <a:srgbClr val="a59658"/>
              </a:solidFill>
              <a:latin typeface="Arial"/>
            </a:endParaRPr>
          </a:p>
        </p:txBody>
      </p:sp>
      <p:pic>
        <p:nvPicPr>
          <p:cNvPr id="94" name="" descr=""/>
          <p:cNvPicPr/>
          <p:nvPr/>
        </p:nvPicPr>
        <p:blipFill>
          <a:blip r:embed="rId2"/>
          <a:stretch/>
        </p:blipFill>
        <p:spPr>
          <a:xfrm>
            <a:off x="914400" y="10666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4960" y="457200"/>
            <a:ext cx="4570560" cy="5410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9658"/>
                </a:solidFill>
                <a:latin typeface="Arial"/>
              </a:rPr>
              <a:t>What about faith? Don’t some people just naturally have more faith than others?</a:t>
            </a:r>
            <a:endParaRPr b="1" lang="en-US" sz="6000" spc="-1" strike="noStrike">
              <a:solidFill>
                <a:srgbClr val="a59658"/>
              </a:solidFill>
              <a:latin typeface="Arial"/>
            </a:endParaRPr>
          </a:p>
        </p:txBody>
      </p:sp>
      <p:pic>
        <p:nvPicPr>
          <p:cNvPr id="96" name="" descr=""/>
          <p:cNvPicPr/>
          <p:nvPr/>
        </p:nvPicPr>
        <p:blipFill>
          <a:blip r:embed="rId2"/>
          <a:stretch/>
        </p:blipFill>
        <p:spPr>
          <a:xfrm>
            <a:off x="6400800" y="3276720"/>
            <a:ext cx="18288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457200"/>
            <a:ext cx="81518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9658"/>
                </a:solidFill>
                <a:latin typeface="Arial"/>
              </a:rPr>
              <a:t>Prayer is a practical experience.</a:t>
            </a:r>
            <a:endParaRPr b="1" lang="en-US" sz="4800" spc="-1" strike="noStrike">
              <a:solidFill>
                <a:srgbClr val="a59658"/>
              </a:solidFill>
              <a:latin typeface="Arial"/>
            </a:endParaRPr>
          </a:p>
        </p:txBody>
      </p:sp>
      <p:sp>
        <p:nvSpPr>
          <p:cNvPr id="98" name=""/>
          <p:cNvSpPr/>
          <p:nvPr/>
        </p:nvSpPr>
        <p:spPr>
          <a:xfrm>
            <a:off x="457200" y="3048120"/>
            <a:ext cx="4724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581e"/>
                </a:solidFill>
                <a:latin typeface="Arial"/>
              </a:rPr>
              <a:t>“</a:t>
            </a:r>
            <a:r>
              <a:rPr b="0" lang="en-US" sz="4000" spc="-1" strike="noStrike">
                <a:solidFill>
                  <a:srgbClr val="19581e"/>
                </a:solidFill>
                <a:latin typeface="Arial"/>
              </a:rPr>
              <a:t>When we work, we work, but when we pray, God Works!”</a:t>
            </a:r>
            <a:endParaRPr b="0" lang="en-US" sz="4000" spc="-1" strike="noStrike">
              <a:solidFill>
                <a:srgbClr val="f6e8ee"/>
              </a:solidFill>
              <a:latin typeface="Times New Roman"/>
            </a:endParaRPr>
          </a:p>
        </p:txBody>
      </p:sp>
      <p:pic>
        <p:nvPicPr>
          <p:cNvPr id="99" name="" descr=""/>
          <p:cNvPicPr/>
          <p:nvPr/>
        </p:nvPicPr>
        <p:blipFill>
          <a:blip r:embed="rId2"/>
          <a:stretch/>
        </p:blipFill>
        <p:spPr>
          <a:xfrm>
            <a:off x="6324480" y="3124080"/>
            <a:ext cx="1889280" cy="269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How Your Church can Grow Strong in Prayer</a:t>
            </a:r>
            <a:endParaRPr b="1" lang="en-US" sz="4400" spc="-1" strike="noStrike">
              <a:solidFill>
                <a:srgbClr val="a59658"/>
              </a:solidFill>
              <a:latin typeface="Arial"/>
            </a:endParaRPr>
          </a:p>
        </p:txBody>
      </p:sp>
      <p:sp>
        <p:nvSpPr>
          <p:cNvPr id="101" name="PlaceHolder 2"/>
          <p:cNvSpPr>
            <a:spLocks noGrp="1"/>
          </p:cNvSpPr>
          <p:nvPr>
            <p:ph/>
          </p:nvPr>
        </p:nvSpPr>
        <p:spPr>
          <a:xfrm>
            <a:off x="1371600" y="1980720"/>
            <a:ext cx="7238880" cy="4419720"/>
          </a:xfrm>
          <a:prstGeom prst="rect">
            <a:avLst/>
          </a:prstGeom>
          <a:noFill/>
          <a:ln w="0">
            <a:noFill/>
          </a:ln>
        </p:spPr>
        <p:txBody>
          <a:bodyPr lIns="90000" rIns="90000" tIns="46800" bIns="46800" anchor="t">
            <a:normAutofit fontScale="98000"/>
          </a:bodyPr>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A powerful church has leaders who make prayer a priority.</a:t>
            </a:r>
            <a:endParaRPr b="0" lang="en-US" sz="3200" spc="-1" strike="noStrike">
              <a:solidFill>
                <a:srgbClr val="f6e8ee"/>
              </a:solidFill>
              <a:latin typeface="Georgia"/>
            </a:endParaRPr>
          </a:p>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Prayer, Bible study, and ministry should always be linked together.</a:t>
            </a:r>
            <a:endParaRPr b="0" lang="en-US" sz="3200" spc="-1" strike="noStrike">
              <a:solidFill>
                <a:srgbClr val="f6e8ee"/>
              </a:solidFill>
              <a:latin typeface="Georgia"/>
            </a:endParaRPr>
          </a:p>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Make times, ways, and places for people to pray together.</a:t>
            </a:r>
            <a:endParaRPr b="0" lang="en-US" sz="3200" spc="-1" strike="noStrike">
              <a:solidFill>
                <a:srgbClr val="f6e8ee"/>
              </a:solidFill>
              <a:latin typeface="Georgia"/>
            </a:endParaRPr>
          </a:p>
          <a:p>
            <a:pPr marL="671760" indent="-671760">
              <a:spcBef>
                <a:spcPts val="799"/>
              </a:spcBef>
              <a:buClr>
                <a:srgbClr val="19581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581e"/>
                </a:solidFill>
                <a:latin typeface="Georgia"/>
              </a:rPr>
              <a:t>Encourage personal and family devotion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533160"/>
            <a:ext cx="838224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9658"/>
                </a:solidFill>
                <a:latin typeface="Arial"/>
              </a:rPr>
              <a:t>In the Local Church</a:t>
            </a:r>
            <a:endParaRPr b="1" lang="en-US" sz="4800" spc="-1" strike="noStrike">
              <a:solidFill>
                <a:srgbClr val="a59658"/>
              </a:solidFill>
              <a:latin typeface="Arial"/>
            </a:endParaRPr>
          </a:p>
        </p:txBody>
      </p:sp>
      <p:sp>
        <p:nvSpPr>
          <p:cNvPr id="103" name="PlaceHolder 2"/>
          <p:cNvSpPr>
            <a:spLocks noGrp="1"/>
          </p:cNvSpPr>
          <p:nvPr>
            <p:ph/>
          </p:nvPr>
        </p:nvSpPr>
        <p:spPr>
          <a:xfrm>
            <a:off x="380520" y="2819160"/>
            <a:ext cx="4953240" cy="3276360"/>
          </a:xfrm>
          <a:prstGeom prst="rect">
            <a:avLst/>
          </a:prstGeom>
          <a:noFill/>
          <a:ln w="0">
            <a:noFill/>
          </a:ln>
        </p:spPr>
        <p:txBody>
          <a:bodyPr lIns="90000" rIns="90000" tIns="46800" bIns="46800" anchor="t">
            <a:normAutofit fontScale="93000"/>
          </a:bodyPr>
          <a:p>
            <a:pPr marL="318960" indent="-318960">
              <a:spcBef>
                <a:spcPts val="11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581e"/>
                </a:solidFill>
                <a:latin typeface="Georgia"/>
              </a:rPr>
              <a:t>Prayerwalking</a:t>
            </a:r>
            <a:endParaRPr b="0" lang="en-US" sz="4400" spc="-1" strike="noStrike">
              <a:solidFill>
                <a:srgbClr val="f6e8ee"/>
              </a:solidFill>
              <a:latin typeface="Georgia"/>
            </a:endParaRPr>
          </a:p>
          <a:p>
            <a:pPr marL="318960" indent="-318960">
              <a:spcBef>
                <a:spcPts val="11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581e"/>
                </a:solidFill>
                <a:latin typeface="Georgia"/>
              </a:rPr>
              <a:t>The Prayer Room</a:t>
            </a:r>
            <a:endParaRPr b="0" lang="en-US" sz="4400" spc="-1" strike="noStrike">
              <a:solidFill>
                <a:srgbClr val="f6e8ee"/>
              </a:solidFill>
              <a:latin typeface="Georgia"/>
            </a:endParaRPr>
          </a:p>
          <a:p>
            <a:pPr marL="318960" indent="-318960">
              <a:spcBef>
                <a:spcPts val="1100"/>
              </a:spcBef>
              <a:buClr>
                <a:srgbClr val="1958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581e"/>
                </a:solidFill>
                <a:latin typeface="Georgia"/>
              </a:rPr>
              <a:t>The 10/40 Window</a:t>
            </a:r>
            <a:endParaRPr b="0" lang="en-US" sz="4400" spc="-1" strike="noStrike">
              <a:solidFill>
                <a:srgbClr val="f6e8ee"/>
              </a:solidFill>
              <a:latin typeface="Georgia"/>
            </a:endParaRPr>
          </a:p>
        </p:txBody>
      </p:sp>
      <p:pic>
        <p:nvPicPr>
          <p:cNvPr id="104" name="" descr=""/>
          <p:cNvPicPr/>
          <p:nvPr/>
        </p:nvPicPr>
        <p:blipFill>
          <a:blip r:embed="rId2"/>
          <a:stretch/>
        </p:blipFill>
        <p:spPr>
          <a:xfrm>
            <a:off x="6095880" y="3352680"/>
            <a:ext cx="2362320" cy="221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720" y="990720"/>
            <a:ext cx="487656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9658"/>
                </a:solidFill>
                <a:latin typeface="Arial"/>
              </a:rPr>
              <a:t>“</a:t>
            </a:r>
            <a:r>
              <a:rPr b="1" lang="en-US" sz="4000" spc="-1" strike="noStrike">
                <a:solidFill>
                  <a:srgbClr val="a59658"/>
                </a:solidFill>
                <a:latin typeface="Arial"/>
              </a:rPr>
              <a:t>Then He said to His disciples, ‘The harvest truly is plentiful, but the laborers are few.  Therefore, pray the Lord of the harvest to send out laborers into His harvest.’”</a:t>
            </a:r>
            <a:br>
              <a:rPr sz="800"/>
            </a:br>
            <a:br>
              <a:rPr sz="800"/>
            </a:br>
            <a:r>
              <a:rPr b="1" lang="en-US" sz="3200" spc="-1" strike="noStrike">
                <a:solidFill>
                  <a:srgbClr val="a59658"/>
                </a:solidFill>
                <a:latin typeface="Arial"/>
              </a:rPr>
              <a:t>Matthew 9:37, 38</a:t>
            </a:r>
            <a:endParaRPr b="1" lang="en-US" sz="3200" spc="-1" strike="noStrike">
              <a:solidFill>
                <a:srgbClr val="a59658"/>
              </a:solidFill>
              <a:latin typeface="Arial"/>
            </a:endParaRPr>
          </a:p>
        </p:txBody>
      </p:sp>
      <p:pic>
        <p:nvPicPr>
          <p:cNvPr id="106" name="" descr=""/>
          <p:cNvPicPr/>
          <p:nvPr/>
        </p:nvPicPr>
        <p:blipFill>
          <a:blip r:embed="rId2"/>
          <a:stretch/>
        </p:blipFill>
        <p:spPr>
          <a:xfrm>
            <a:off x="7942320" y="5410080"/>
            <a:ext cx="927000" cy="1206720"/>
          </a:xfrm>
          <a:prstGeom prst="rect">
            <a:avLst/>
          </a:prstGeom>
          <a:ln w="0">
            <a:noFill/>
          </a:ln>
        </p:spPr>
      </p:pic>
      <p:pic>
        <p:nvPicPr>
          <p:cNvPr id="107" name="" descr=""/>
          <p:cNvPicPr/>
          <p:nvPr/>
        </p:nvPicPr>
        <p:blipFill>
          <a:blip r:embed="rId3"/>
          <a:stretch/>
        </p:blipFill>
        <p:spPr>
          <a:xfrm>
            <a:off x="7978680" y="228600"/>
            <a:ext cx="936720" cy="1219320"/>
          </a:xfrm>
          <a:prstGeom prst="rect">
            <a:avLst/>
          </a:prstGeom>
          <a:ln w="0">
            <a:noFill/>
          </a:ln>
        </p:spPr>
      </p:pic>
      <p:pic>
        <p:nvPicPr>
          <p:cNvPr id="108" name="" descr=""/>
          <p:cNvPicPr/>
          <p:nvPr/>
        </p:nvPicPr>
        <p:blipFill>
          <a:blip r:embed="rId4"/>
          <a:stretch/>
        </p:blipFill>
        <p:spPr>
          <a:xfrm>
            <a:off x="228600" y="5410080"/>
            <a:ext cx="927000" cy="1206720"/>
          </a:xfrm>
          <a:prstGeom prst="rect">
            <a:avLst/>
          </a:prstGeom>
          <a:ln w="0">
            <a:noFill/>
          </a:ln>
        </p:spPr>
      </p:pic>
      <p:pic>
        <p:nvPicPr>
          <p:cNvPr id="109" name="" descr=""/>
          <p:cNvPicPr/>
          <p:nvPr/>
        </p:nvPicPr>
        <p:blipFill>
          <a:blip r:embed="rId5"/>
          <a:stretch/>
        </p:blipFill>
        <p:spPr>
          <a:xfrm>
            <a:off x="152280" y="228600"/>
            <a:ext cx="99396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11"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7:42:20Z</dcterms:created>
  <dc:creator>Roland J. Penner</dc:creator>
  <dc:description/>
  <dc:language>en-US</dc:language>
  <cp:lastModifiedBy>Roland J. Penner</cp:lastModifiedBy>
  <dcterms:modified xsi:type="dcterms:W3CDTF">2004-07-06T15:57:42Z</dcterms:modified>
  <cp:revision>10</cp:revision>
  <dc:subject/>
  <dc:title>Slide 1</dc:title>
</cp:coreProperties>
</file>